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D73-04AB-42AA-9FAE-34A802E1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FE0-3DF1-44B4-B352-119F1E8C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62B-C280-453C-93E2-5162A6D9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F74-35F9-4928-A95D-E4DE2E34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1D3C-F8D1-4942-BD28-FD2F856C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C079-81F2-46AF-B0AC-97AAC9B7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AC2D-3F47-415D-9749-E5D98D2D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E450-C97E-42FF-AC6C-1E9E3076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F254-562D-424B-86AC-FAF38B14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9A69-8EBC-459A-8FF5-19A7502E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8DD3-BC9D-4BEF-BB64-26E247A0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526-FE3F-4E7D-8D54-686AA500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1008-487A-451A-912A-5138A7C5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D99B-32B7-4EF2-BB3B-26DC3BB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02FF-9770-4750-BFA3-BCD6BBDE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51C6-A396-4A05-88A2-A8242498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D0C3-FBA2-4E66-A44E-DB6621E5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564-2DCD-4CB0-9F50-3E2F2279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CAE-A8F1-4CB2-BB8E-47128D97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468-C876-4828-AFA4-06A33F2C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3A8-7A88-4311-8509-061AB57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572-A7F7-402F-96AA-D70F81A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827-2221-42ED-9665-F1DA6AF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785-E396-410B-9B44-E13D986C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2FDD-6F99-4D6B-807E-AB1CC7999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FDF5-D72A-45F0-922C-7020F8062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mystica.com/mystica/articles/m/meditation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roma.org/images/mcmanus_images/paula_chabot/engineering/pcengin.16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Arial"/>
              </a:rPr>
              <a:t>By the Waters of Babyl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pg. 1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UBTREAS wa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e Sub Treasury in New Yor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now called Federal Hall National Mem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Federal Hall National Memorial"/>
          <p:cNvPicPr/>
          <p:nvPr/>
        </p:nvPicPr>
        <p:blipFill>
          <a:blip r:embed="rId2"/>
          <a:stretch/>
        </p:blipFill>
        <p:spPr>
          <a:xfrm>
            <a:off x="1981080" y="2971800"/>
            <a:ext cx="54104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shing wa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 Statue of George Washington in Union Square, New York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265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 temple with the stars for a roof was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e ceiling at Grand Central 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33526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Who do you think the dead god sitting in the chair wa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This was a fantasy story; but several things, although they sounded odd, were based in reality.  Some examples are…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1. Priests, chants and sp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2. A purifica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3. Interpreting animals as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4. Cultures in the future having less knowledge than cultures in 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17524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he Cherokee have similar chants, spells, and danc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he Cherokee had many lively dances.  In the uka dance, the chief, or 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uka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himself offered thanksgiving in a spirit of rejoi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Priests, Chants and Spel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227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 Purification proces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837720"/>
            <a:ext cx="8540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ome Native Americans also have a purification proces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he individual goes alone into the wilderness to a sacred place where he fasts, thirsts, smokes tobacco, prays, and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editates</a:t>
            </a:r>
            <a:r>
              <a:rPr b="0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 for a v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Vision quests are mostly undertaken by males usually when entering puberty, but sometimes in childh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hey also have maturity rituals, sometimes called vision 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Young boys before or at puberty are encouraged to enter into a period of fasting, meditation and physical challenge. He separates himself from the tribe and go to a wilderness area. The goal is to receive a vision that will guide his development for the rest of his life. They also seek to acquire a guardian spirit who will be close and supportive for their lifet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8120" y="4516560"/>
            <a:ext cx="312084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Interpreting animals as sig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In the Cherokee religion, </a:t>
            </a: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he Eagle, flying toward the East, is a symbol of strength, endurance and vision. East signifies the renewal of life and the rebirth of Cherokee unity.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48769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lso, Egyptians believed cats to be sacred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When a cat died their former owners and occupants of the house wou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go into deep mourning and shave their eyebrows as a sign of grief.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are not the only mummies in Egypt, as the cat was also mummif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significant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Cats were not only protected by almost every occupant of Egypt, but al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by the law. So extreme in fact was the devoutness of the Egyptian cul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to the cat, that if a human killed a feline, either intentionally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unintentionally, that human was sentenced to deat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38096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324480" y="4343400"/>
            <a:ext cx="123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ultures in the future having less knowledge than cultures in the past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oman bathro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athhouses also had larg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ublic latrines</a:t>
            </a: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, often with marble seats over channels whose continuous flow of water constituted the first “flush toil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33"/>
                </a:solidFill>
                <a:latin typeface="Arial"/>
              </a:rPr>
              <a:t>Pay attention to the setting and ask yourself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Is this story set i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The p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The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Arial"/>
              </a:rPr>
              <a:t>Or the fu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2743200" cy="401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14800" y="3505320"/>
            <a:ext cx="4722840" cy="265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228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This was in 117 A.D.  Let’s check out the early 1900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2,000 years later, their toilets looked like thi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2009520" cy="256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49528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ually the father of the family dug a new hole a few feet from the outhouse, moved it onto the new hole, then took the dirt and filled in the old hole. However, I know an uncle who got in there with a shovel because he didn't feel like digging a new hole.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What about the concept of fligh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Between 1899 and 1905 A.D., the Wright brothers conducted a program of aeronautical research and experimentation that led to the first successful powered airplane in 19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Preparing the plane for takeoff"/>
          <p:cNvPicPr/>
          <p:nvPr/>
        </p:nvPicPr>
        <p:blipFill>
          <a:blip r:embed="rId2"/>
          <a:stretch/>
        </p:blipFill>
        <p:spPr>
          <a:xfrm>
            <a:off x="2590920" y="4191120"/>
            <a:ext cx="44193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But the actual concept of flight is much, much olde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27800" cy="2451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19320" y="5562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These are in ancient 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ompare them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4102200" cy="1307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905120" y="3352680"/>
            <a:ext cx="3962160" cy="1497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117880" y="5294160"/>
            <a:ext cx="37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Helicopter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6502320" cy="2031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62320" y="2895480"/>
            <a:ext cx="4419360" cy="2301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33720" y="5638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Gl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3623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se carvings were made at least  3,000 years BEFORE the Wright Brothers took their first flight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812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What about homes?</a:t>
            </a:r>
            <a:br>
              <a:rPr sz="4000"/>
            </a:b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se were the homes built and used in early James town in the 1700’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Img461530265" descr="Jamestown"/>
          <p:cNvPicPr/>
          <p:nvPr/>
        </p:nvPicPr>
        <p:blipFill>
          <a:blip r:embed="rId2"/>
          <a:stretch/>
        </p:blipFill>
        <p:spPr>
          <a:xfrm>
            <a:off x="1447920" y="2590920"/>
            <a:ext cx="6146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ese, are the pyramids of Giza, constructed some time around 2600 B.C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6350040" cy="2793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Egypt's 4th Dynasty"/>
          <p:cNvPicPr/>
          <p:nvPr/>
        </p:nvPicPr>
        <p:blipFill>
          <a:blip r:embed="rId3"/>
          <a:stretch/>
        </p:blipFill>
        <p:spPr>
          <a:xfrm>
            <a:off x="0" y="2286000"/>
            <a:ext cx="21891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is is the construction of the insid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833560" cy="1931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200400" y="2133720"/>
            <a:ext cx="2693880" cy="396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019920" y="228600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Also, write these words down and after the story, see if you can figure out what they mea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. Dead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2. The Great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3. Old books &amp; wri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4. Old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5. Place of the G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6. God-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7. Ou-dis-s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8. Bitter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9. UBT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0. A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1. The temple with the                      stars for a 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12. The dead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46627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These pyramids are at least 4,000 OLDER than the Jamestown settl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 Dead Places were…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Houses or dwellings of humans who died a long time ag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e Great River, Ou-dis-sun wa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e Hudson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5867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Old Books and Writings were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Books written in English that existed before our society was destr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 Old Days were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The days before The Great Burning, our “present da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The God Roads were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e Concrete roads we used to us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504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The Bitter Water was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he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282760"/>
            <a:ext cx="76201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The Place of the Gods was…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ew York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9:21:19Z</dcterms:created>
  <dc:creator>Ktull</dc:creator>
  <dc:description/>
  <dc:language>en-US</dc:language>
  <cp:lastModifiedBy>Parkland High School</cp:lastModifiedBy>
  <dcterms:modified xsi:type="dcterms:W3CDTF">2011-05-11T16:49:09Z</dcterms:modified>
  <cp:revision>30</cp:revision>
  <dc:subject/>
  <dc:title>By the Waters of Babylon</dc:title>
</cp:coreProperties>
</file>